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2EE-3C54-474A-8192-717AE56AD6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BB84-64D1-49DC-8415-107590EB546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BAF0-1F62-442F-958F-42B61146D67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ACDE-75D6-423A-9DDF-96B344D06E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64B6-B1F3-4738-820E-38B6A153D45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7DBB-8150-4378-A4A7-5B23DC75E1A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59D0-78B2-48CE-B93B-8E80F61D19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7BA-6F7C-4B0F-92BF-5505AAD4F11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0FD-650B-4C93-8B5A-86672289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06F-F95E-4A6C-9B11-1EE1C2D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A43-60C5-4A8A-AF28-4419CF3D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886-C95E-40F5-A557-DF81B52E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2D7-9009-4793-8E5C-C13387C9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778D-B015-4CBC-A765-7745EBB0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4607-2E07-4C56-AFC2-245119F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430E-5A97-42E5-9700-1E4215B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E8AA-A903-4CC1-85B9-B1BA0DE1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B8F9-633D-41FC-9A9B-178B998F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B976-93E4-4316-8BDD-2289532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FE8-9DA9-40FB-8241-CC1D88F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2B15-95EF-4D2A-97A3-4E4925B5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F9C-499A-45E2-AC8E-35B21BB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BA7-3C9A-4685-B120-B65E1B7B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EABB-341A-4B37-BABD-18867F72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B1F-3148-4B7A-BEAF-1BAEA545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5A4-EE5F-4BF7-9BDC-39C9B54C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D39-50CF-46E6-ABF5-50D033D5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439-C676-42DF-A3E8-E9F3B36E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61B-594B-45CE-9ADD-3E9C436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658-7EAF-4690-8097-5F1A70F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115-9B3B-4BD7-8597-E63EDE6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554-25A0-4460-B501-50AB636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89A-21A3-4F59-9392-377BE264BC2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A39D-24B8-472D-808F-1A81C31E997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ES TRASSIERA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PROGRAMA DE CUALIFICACIÓN PROFESIONAL INICIAL</a:t>
            </a:r>
            <a:br>
              <a:rPr sz="4000"/>
            </a:br>
            <a:br>
              <a:rPr sz="4000"/>
            </a:br>
            <a:r>
              <a:rPr b="1" lang="es-ES" sz="3300" spc="-1" strike="noStrike">
                <a:solidFill>
                  <a:srgbClr val="eaeaea"/>
                </a:solidFill>
                <a:latin typeface="Tahoma"/>
              </a:rPr>
              <a:t>Auxiliar de Gestión Administrativa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5734080"/>
            <a:ext cx="760896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rso 2011-12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" y="-10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9" descr="placa_tic"/>
          <p:cNvPicPr/>
          <p:nvPr/>
        </p:nvPicPr>
        <p:blipFill>
          <a:blip r:embed="rId1"/>
          <a:stretch/>
        </p:blipFill>
        <p:spPr>
          <a:xfrm>
            <a:off x="5580000" y="55897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placa_dig"/>
          <p:cNvPicPr/>
          <p:nvPr/>
        </p:nvPicPr>
        <p:blipFill>
          <a:blip r:embed="rId2"/>
          <a:stretch/>
        </p:blipFill>
        <p:spPr>
          <a:xfrm>
            <a:off x="7308720" y="558972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logo25"/>
          <p:cNvPicPr/>
          <p:nvPr/>
        </p:nvPicPr>
        <p:blipFill>
          <a:blip r:embed="rId3"/>
          <a:stretch/>
        </p:blipFill>
        <p:spPr>
          <a:xfrm>
            <a:off x="1476360" y="404640"/>
            <a:ext cx="11095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900000" y="-90360"/>
            <a:ext cx="7920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CPI que se va a impartir en el IES Trassierra pertenece a la familia profesional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DMINISTRACIÓN Y GEST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y va a capacitar a nuestro  alumnado para obtener la correspondiente  certificación que le permita , si así lo desea, incorporarse al mundo laboral  com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66ff33"/>
                </a:solidFill>
                <a:uFillTx/>
                <a:latin typeface="Tahoma"/>
              </a:rPr>
              <a:t>AUXILIAR DE GESTIÓN ADMINISTRATIV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grama está organizado en 2 cursos académicos, siendo el primero obligatorio y el segundo voluntari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Profesorado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7543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tra Barrios Roldá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arte los Módulos Gene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la tut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osé Antonio Segura Cór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mparte los Módulos Específ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umnad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8172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han matriculado 12 alumnos, de los cuales todos mantienen una buena asistencia ( 7 chicas y 5 chic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ceden de diversos centros  de Córdob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    IES Trassier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Medina Azah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López Ney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Zo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Las Viñas (Mori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    IES Villaru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Teresia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   IES Colonial (Fuente Palm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xpectativas en relación con estos estudio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220500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Tahoma"/>
              </a:rPr>
              <a:t>Todos pretenden obtener el Título de Graduado en E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intereses profesionales son diversos, y la mayoría ha elegido este PCPI por ser la opción más favor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 INICIAL</a:t>
            </a:r>
            <a:br>
              <a:rPr sz="4400"/>
            </a:b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Pruebas realizad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5376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istro individual de Tuto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est Psicológico BadyG M (Mide las actitudes gener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ueba inicial de Lengua y de Mate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estionario de autoevaluación de la autoes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toevaluación de las condiciones para el e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 INICIAL Resultad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ivel académico heterogéneo, por debajo de la media de su 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presentan graves deficiencias en gen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umnos que destacan en algunas materias, necesitan más apoyo en otras y vice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general las materias “menos preferidas” son Matemáticas, Lengua, Sociales e idi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lta de destrezas relacionadas con la expresión oral y esc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87280" y="1916280"/>
            <a:ext cx="7561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ienen, en general, un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bajo nivel de auto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án convencidos de que no “sirven para estudi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onocen que no “están a la altura” de lo que sus padres esperan de el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án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desmotivados respecto al estu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 nivel emocion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n realidad, reconocen que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n tenido malas experien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“saben estudi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dedican tiemp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istraen con fac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s angustian los exám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ienen lagunas que dificultan su progr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resumen, </a:t>
            </a: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NO ESTÁN MOTIV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Objetivos genera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mpliar las competencias básicas del alumnado para proseguir estudios en las diferentes enseñanz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mitir que el alumnado alcance competencias profes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tar al alumnado de posibilidades reales para una inserción sociolaboral satisfac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ctividades a realizar para alcanzar estos objetivo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ecesarias para adquirir los contenidos  académicos neces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rrollo de la comprensión y expresión tanto oral como escr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cnicas de trabajo intelec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grama de desarrollo de habilidade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propias del perfil profesional ele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idades complementarias: talleres, visitas, excursione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Finalidad de los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grama de Cualificación Profesional Inicial tiene como objeto ofrecer a los alumnos/as una vía alternativa que les permita 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obtener el título de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ahoma"/>
              </a:rPr>
              <a:t>Graduado en Educación Secundaría Obligatori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y, al mismo tiempo, </a:t>
            </a:r>
            <a:r>
              <a:rPr b="1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conseguir una cualificación profesional bási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que facilite su acceso al mundo laboral, sin prolongar la escolarización más allá de los dieciocho años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Metodología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8077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va. Adquirir los conocimientos mediante la acción. </a:t>
            </a:r>
            <a:r>
              <a:rPr b="0" lang="es-ES" sz="2800" spc="-1" strike="noStrike">
                <a:solidFill>
                  <a:srgbClr val="66ff33"/>
                </a:solidFill>
                <a:latin typeface="Tahoma"/>
              </a:rPr>
              <a:t>“APRENDER HACIEN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autónomo y en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tención individualizada, en función  de las necesidades individu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so de las Nuevas 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ácticas dia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programarán actividades que potencien las destrezas lingüísticas, el razonamiento lógico, la reflexión individual y grupal y la resolución de situaciones problemát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Evaluació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67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in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realizarán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res evalu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 necesari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probar las práct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ara obtener el Certificado correspond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se aprueban los módulos generales queda exento de una parte de la Prueba de Acceso a los Ciclos Formativos de Grado Me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que aprobar todos los módulos obligatorios para realizar los voluntarios y optar al Título de Graduado en 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 se puede repetir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salvo autorización de la inspe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aeaea"/>
                </a:solidFill>
                <a:latin typeface="Tahoma"/>
              </a:rPr>
              <a:t>Instrumentos de evaluación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loración del trabajo diario en clase y participación activa y responsable en las actividades programadas (2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aderno de trabajo y actividades TIC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oles y pruebas objetivas (5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sistencia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titud (1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Nuestro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3 Marcador de contenido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527280"/>
          </a:xfrm>
          <a:prstGeom prst="rect">
            <a:avLst/>
          </a:prstGeom>
          <a:ln w="0">
            <a:noFill/>
          </a:ln>
        </p:spPr>
      </p:pic>
      <p:pic>
        <p:nvPicPr>
          <p:cNvPr id="168" name="11 Marcador de contenido" descr=""/>
          <p:cNvPicPr/>
          <p:nvPr/>
        </p:nvPicPr>
        <p:blipFill>
          <a:blip r:embed="rId2"/>
          <a:stretch/>
        </p:blipFill>
        <p:spPr>
          <a:xfrm>
            <a:off x="4140360" y="3141720"/>
            <a:ext cx="482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Gracias por su atenció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753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aeaea"/>
                </a:solidFill>
                <a:latin typeface="Tahoma"/>
              </a:rPr>
              <a:t>ESTRUCTURA DEL PC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dos cur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º 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OBLIG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ESPECÍF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FORMACIÓN EN CENTROS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2º CURS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Tahoma"/>
              </a:rPr>
              <a:t>MÓDULOS VOLU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Organización del 1º curs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ódulos Obligator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mación bás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 Emprende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ción y ciudadan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vas 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s espec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s Profesion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ódulo d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Formación en centr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 trabaj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(Práct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Módulos Específicos</a:t>
            </a: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Tahoma"/>
              </a:rPr>
              <a:t>(532 horas)</a:t>
            </a:r>
            <a:br>
              <a:rPr sz="2400"/>
            </a:b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(Resolución de 1 de septiembre de 2008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cnicas administrativas básica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20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laboración de documentación administrativa y comercial básica (pedidos, albaranes, facturas, recibos, nóminas sencillas, cheques, control de existencias, etc.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unicación y atención al cliente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44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canografía, procesador de textos, cumplimentación de documentos de comunicación, expresarse correctamente de forma oral y escrita, atención telefónica y telemática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 y archivo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168 hor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stema operativo (carpetas,archivos), bases de datos, reproducir y encuadernar documentos, correspondencia, paquetería, archivo convencional, etc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mación en centros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ner en práctica todo lo aprendido durante el cur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ínimo: 100 hor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 finalizar este primer curso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26920" y="2138760"/>
            <a:ext cx="806616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/as alumnos/as que SUPEREN estos módulos obtendrán una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ahoma"/>
              </a:rPr>
              <a:t>certificación académic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 acreditará las competencias profesionales y quedará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exentos de parte de la Prueba de Acceso a Ciclos Formativos de Grado Medi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2º curso académico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ódulos Voluntarios: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de comunicación (10 horas/semana)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social (14 horas/semana)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Ámbito científico-tecnológico  (14 horas/seman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utoría (1 hora/semana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Al finalizar el 2º curso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os alumnos y alumnas  que SUPEREN los módulos obligatorios y los módulos voluntarios obtendrán el </a:t>
            </a:r>
            <a:r>
              <a:rPr b="0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Título de Graduado en Educación Secundaria Obligatoria. </a:t>
            </a:r>
            <a:br>
              <a:rPr sz="3200"/>
            </a:br>
            <a:r>
              <a:rPr b="0" lang="es-ES" sz="3200" spc="-1" strike="noStrike" u="sng">
                <a:solidFill>
                  <a:srgbClr val="66ff33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pcpi"/>
          <p:cNvPicPr/>
          <p:nvPr/>
        </p:nvPicPr>
        <p:blipFill>
          <a:blip r:embed="rId1"/>
          <a:stretch/>
        </p:blipFill>
        <p:spPr>
          <a:xfrm>
            <a:off x="971640" y="549360"/>
            <a:ext cx="770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20:41:42Z</dcterms:created>
  <dc:creator>usuario</dc:creator>
  <dc:description/>
  <dc:language>en-US</dc:language>
  <cp:lastModifiedBy>TRASSIERRA</cp:lastModifiedBy>
  <dcterms:modified xsi:type="dcterms:W3CDTF">2012-02-08T09:46:18Z</dcterms:modified>
  <cp:revision>36</cp:revision>
  <dc:subject/>
  <dc:title>   IES TRASSIERA  PROGRAMA DE CUALIFICACIÓN PROFESIONAL INIC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